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C532-9D12-48CA-9B7D-A215B0BD6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AD68-1069-4841-ABC0-927D6359C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BB13-D49F-4C80-9662-EC17D553A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7972-13E9-4470-A41E-54958EA643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F0F0-E5A5-4698-8055-29FAFBA1D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0B1B-3907-4CAF-9C62-F6886A5A3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962D-7A6A-409D-8B51-04F0D77B4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DC5E-4E93-454C-9380-6A830129E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242D-0BCA-4A93-B0F1-0B28D7799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1CED-4754-4A88-8A7D-1FEE44B16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3310-5B21-43D8-959D-EF9B3BA35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40E9-82CC-45E8-A948-4ACCFBA8B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609840" cy="304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D9C8-B402-4055-A2D5-32F98D3B560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20040"/>
            <a:ext cx="8381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Renata Pelosini, Christian Ronchi,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6600"/>
                </a:solidFill>
                <a:latin typeface="Arial"/>
              </a:rPr>
              <a:t>Giovanni Vercellone – ARPA Piemo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66680" y="0"/>
            <a:ext cx="6096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Corso-Laboratorio di Educazione Ambientale</a:t>
            </a:r>
            <a:br>
              <a:rPr sz="1800"/>
            </a:br>
            <a:r>
              <a:rPr b="0" lang="it-IT" sz="1800" spc="-1" strike="noStrike">
                <a:solidFill>
                  <a:srgbClr val="006600"/>
                </a:solidFill>
                <a:latin typeface="Arial"/>
              </a:rPr>
              <a:t>L’Educazione Ambientale per lo Sviluppo Sosten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477120" y="0"/>
            <a:ext cx="2666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9900"/>
                </a:solidFill>
                <a:latin typeface="Arial"/>
              </a:rPr>
              <a:t>Gruppo di Lavoro C.I.F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CORSO-LABORATORIO DI EDUCAZIONE AMBIENTA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MODULO: I cambiamenti climatici</a:t>
            </a: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Renata Pelosini, Christian Ronchi, Gianni Vercell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Arpa Piemo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260B-A5B0-4AF5-A5AB-1C190A7019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1680" indent="-571680"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9900"/>
                </a:solidFill>
                <a:latin typeface="Arial"/>
              </a:rPr>
              <a:t>Motivazioni e contenuti.</a:t>
            </a:r>
            <a:endParaRPr b="1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.1 Perché parlare di cambiamenti climati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Pianeta è un “organismo vivente”. I cambiamenti climatici altro non sono che i 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sintomi</a:t>
            </a:r>
            <a:r>
              <a:rPr b="1" i="1" lang="it-IT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 suo stato di salute. L’uomo , come un medico, cerca di interpretare questi sintomi e organizzarli in una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dignosi differenzial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n modo da porre le basi per una eventuale </a:t>
            </a:r>
            <a:r>
              <a:rPr b="1" lang="it-IT" sz="1800" spc="-1" strike="noStrike">
                <a:solidFill>
                  <a:srgbClr val="006600"/>
                </a:solidFill>
                <a:latin typeface="Arial"/>
              </a:rPr>
              <a:t>terapi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6553080" cy="327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4343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c9900"/>
                </a:solidFill>
                <a:latin typeface="Arial"/>
              </a:rPr>
              <a:t>La “febbre” della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A0DD-B575-43A3-9957-9F366DDB6C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977760"/>
            <a:ext cx="4038840" cy="3119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cc9900"/>
                </a:solidFill>
                <a:latin typeface="Arial"/>
              </a:rPr>
              <a:t>…</a:t>
            </a:r>
            <a:r>
              <a:rPr b="1" i="1" lang="it-IT" sz="2500" spc="-1" strike="noStrike">
                <a:solidFill>
                  <a:srgbClr val="cc9900"/>
                </a:solidFill>
                <a:latin typeface="Arial"/>
              </a:rPr>
              <a:t>alcuni sintomi…</a:t>
            </a:r>
            <a:r>
              <a:rPr b="1" i="1" lang="it-IT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492720" cy="367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495680" y="4114800"/>
            <a:ext cx="3886200" cy="2220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48769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llasso degli Ice shelves antartici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5715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minuzione dei ghiacci marini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6094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umento della temperatura glob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AC24-4E5F-4AE6-9DD1-F37756EFA8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05320" y="762120"/>
            <a:ext cx="54100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90520" y="3130560"/>
            <a:ext cx="4662360" cy="327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295280"/>
            <a:ext cx="2895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umento delle aree di fusione per la neve in Groenla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45720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ritir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ghiacciai alp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A0E2-A49F-4687-BD80-A762199DDF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698720" cy="5029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…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alcuni sintomi: la colonizzazione del des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686120" cy="472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257800" y="2819520"/>
            <a:ext cx="3492360" cy="283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181480" y="2819520"/>
            <a:ext cx="3492720" cy="2832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181480" y="2819520"/>
            <a:ext cx="3492720" cy="2832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5181480" y="2819520"/>
            <a:ext cx="3492720" cy="283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181480" y="2819520"/>
            <a:ext cx="3492720" cy="2832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81480" y="1219320"/>
            <a:ext cx="3733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che l’uomo contribuisce al cambiamento del territo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 “One Planet, Many People - Atlas of Our Changing Environm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57913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Arial"/>
              </a:rPr>
              <a:t>LAS VE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B9BD-2E95-4C15-9156-7DDF67B428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00000"/>
                </a:solidFill>
                <a:latin typeface="Arial"/>
              </a:rPr>
              <a:t>1.2 La struttura del Cor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990720"/>
            <a:ext cx="861048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rso si articola in 3 fasi sequenzi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1° Gior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zione del </a:t>
            </a:r>
            <a:r>
              <a:rPr b="0" lang="it-IT" sz="2000" spc="-1" strike="noStrike">
                <a:solidFill>
                  <a:srgbClr val="006600"/>
                </a:solidFill>
                <a:latin typeface="Arial"/>
              </a:rPr>
              <a:t>“paziente”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l sistema climat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attraverso la conoscenza della sua stori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oluzione del significato di “clima” dal medioevo ad ogg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 la sua “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siologia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ccanismi di For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 dei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“sintomi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sservati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cambiamenti climati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 degli strumenti di indagin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delli climatologi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2° Gior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“Diagnosi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cing antropico) e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“terapia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l Protocollo di Kyo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724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1.3 Gli strumenti del Cor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5257800"/>
            <a:ext cx="8610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terapia è effic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mulazione interattiva dei meccanismi flessibili proposti dal Protocollo di Ky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868E-B576-410E-A317-D6B30ABC3D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cc9900"/>
                </a:solidFill>
                <a:latin typeface="Arial"/>
              </a:rPr>
              <a:t>2. Programma del Corso</a:t>
            </a:r>
            <a:endParaRPr b="1" lang="en-US" sz="3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.1 SEDE DI SVOLGIMENTO: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Arpa Piemo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.2 DATA PROPOSTA: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10/11 maggi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.3 PARTECIPANTI :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referenti CIFE del sistema APAT, ARPA, APPA, funzionari Regione Piemonte che operano nel settore INF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N° PARTECIPANTI: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6600"/>
                </a:solidFill>
                <a:latin typeface="Arial"/>
              </a:rPr>
              <a:t>circa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0805-222B-4B0C-AB5F-E899C60470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12:27:43Z</dcterms:created>
  <dc:creator> </dc:creator>
  <dc:description/>
  <dc:language>en-US</dc:language>
  <cp:lastModifiedBy> </cp:lastModifiedBy>
  <dcterms:modified xsi:type="dcterms:W3CDTF">2005-09-20T15:58:52Z</dcterms:modified>
  <cp:revision>22</cp:revision>
  <dc:subject/>
  <dc:title>TITOLO DELLA PRESENTAZIONE</dc:title>
</cp:coreProperties>
</file>